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88F9-DB7D-4A82-9733-7FC5EE0FE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705F-C68E-498C-8B14-EF14EA7A0B5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E660-030F-4300-9FC3-283ED53E6F3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5BD5-C885-4A67-BEE5-12EB409D00C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B200-85D2-4675-8C9B-9C086720D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E9E6-1A79-44C2-B30E-5D54AD530E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9ACF-2FF1-4979-B365-EBF8E9DEA0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1CF1-3B7D-444A-B9DD-A498CB40D84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C97A-95D1-45B1-9A6B-7A70DCBD9F1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4BE1-D880-47E6-B308-ECB00B0B7C8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601B-BF21-4824-A680-71783694C45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7D77-1DDD-49EE-AE60-B557F9FDFC5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8156520" y="0"/>
            <a:ext cx="986040" cy="6856560"/>
            <a:chOff x="8156520" y="0"/>
            <a:chExt cx="986040" cy="685656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28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8156520" y="0"/>
              <a:ext cx="98604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246560" y="6510240"/>
            <a:ext cx="20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512040"/>
            <a:ext cx="365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251400" y="6509880"/>
            <a:ext cx="58752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A29537-55F8-4355-8D18-C4B84CA103E8}" type="slidenum">
              <a:rPr b="0" lang="hu-H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457200" y="32076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"/>
          <p:cNvSpPr/>
          <p:nvPr/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u-HU" sz="38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1" lang="hu-HU" sz="5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hu-HU" sz="5400" spc="-1" strike="noStrike">
                <a:solidFill>
                  <a:srgbClr val="000000"/>
                </a:solidFill>
                <a:latin typeface="Trebuchet MS"/>
              </a:rPr>
              <a:t>Stür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342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"/>
          <p:cNvSpPr/>
          <p:nvPr/>
        </p:nvSpPr>
        <p:spPr>
          <a:xfrm>
            <a:off x="0" y="593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Hurrikan Isabel Baltimo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u-HU" sz="3400" spc="-1" strike="noStrike">
                <a:solidFill>
                  <a:srgbClr val="ffffff"/>
                </a:solidFill>
                <a:latin typeface="Trebuchet MS"/>
              </a:rPr>
              <a:t>Torn</a:t>
            </a:r>
            <a:r>
              <a:rPr b="1" lang="hu-HU" sz="3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3400" spc="-1" strike="noStrike">
                <a:solidFill>
                  <a:srgbClr val="ffffff"/>
                </a:solidFill>
                <a:latin typeface="Trebuchet MS"/>
              </a:rPr>
              <a:t>d</a:t>
            </a:r>
            <a:r>
              <a:rPr b="1" lang="hu-HU" sz="3400" spc="-1" strike="noStrike">
                <a:solidFill>
                  <a:srgbClr val="ffffff"/>
                </a:solidFill>
                <a:latin typeface="Arial"/>
              </a:rPr>
              <a:t>o in </a:t>
            </a:r>
            <a:r>
              <a:rPr b="1" lang="hu-HU" sz="3400" spc="-1" strike="noStrike">
                <a:solidFill>
                  <a:srgbClr val="ffffff"/>
                </a:solidFill>
                <a:latin typeface="Trebuchet MS"/>
              </a:rPr>
              <a:t> Miskolc – </a:t>
            </a:r>
            <a:r>
              <a:rPr b="1" lang="hu-HU" sz="3400" spc="-1" strike="noStrike">
                <a:solidFill>
                  <a:srgbClr val="ffffff"/>
                </a:solidFill>
                <a:latin typeface="Arial"/>
              </a:rPr>
              <a:t>11.06.2008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13800" cy="4608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2"/>
          <p:cNvSpPr/>
          <p:nvPr/>
        </p:nvSpPr>
        <p:spPr>
          <a:xfrm>
            <a:off x="826920" y="404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ornado in Diósjen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5364000" y="260280"/>
            <a:ext cx="36118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u-HU" sz="3800" spc="-1" strike="noStrike">
                <a:solidFill>
                  <a:srgbClr val="000000"/>
                </a:solidFill>
                <a:latin typeface="Trebuchet MS"/>
              </a:rPr>
              <a:t>Ipolytarnóc             </a:t>
            </a:r>
            <a:r>
              <a:rPr b="1" lang="hu-HU" sz="3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hu-HU" sz="3800" spc="-1" strike="noStrike">
                <a:solidFill>
                  <a:srgbClr val="000000"/>
                </a:solidFill>
                <a:latin typeface="Trebuchet MS"/>
              </a:rPr>
              <a:t>.08.</a:t>
            </a:r>
            <a:r>
              <a:rPr b="1" lang="hu-HU" sz="3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hu-HU" sz="3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1"/>
          <p:cNvSpPr/>
          <p:nvPr/>
        </p:nvSpPr>
        <p:spPr>
          <a:xfrm>
            <a:off x="1476360" y="907920"/>
            <a:ext cx="663588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tornádó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70069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"/>
          <p:cNvSpPr/>
          <p:nvPr/>
        </p:nvSpPr>
        <p:spPr>
          <a:xfrm>
            <a:off x="5867280" y="2349360"/>
            <a:ext cx="318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ornádótölcsér palástja mentén felfelé csavarodó légtömeget a tornádó belsejében lefelé szálló levegő helyettesíti: így jön létre a heves forgószé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3402000" y="-12600"/>
            <a:ext cx="5900760" cy="15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108000" y="103320"/>
            <a:ext cx="4470480" cy="30398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" descr=""/>
          <p:cNvPicPr/>
          <p:nvPr/>
        </p:nvPicPr>
        <p:blipFill>
          <a:blip r:embed="rId2"/>
          <a:stretch/>
        </p:blipFill>
        <p:spPr>
          <a:xfrm>
            <a:off x="4745160" y="103320"/>
            <a:ext cx="4248000" cy="3038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3"/>
          <a:stretch/>
        </p:blipFill>
        <p:spPr>
          <a:xfrm>
            <a:off x="108000" y="3357720"/>
            <a:ext cx="4470480" cy="3311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"/>
          <p:cNvPicPr/>
          <p:nvPr/>
        </p:nvPicPr>
        <p:blipFill>
          <a:blip r:embed="rId4"/>
          <a:stretch/>
        </p:blipFill>
        <p:spPr>
          <a:xfrm>
            <a:off x="4745160" y="3360600"/>
            <a:ext cx="424800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" descr=""/>
          <p:cNvPicPr/>
          <p:nvPr/>
        </p:nvPicPr>
        <p:blipFill>
          <a:blip r:embed="rId1"/>
          <a:stretch/>
        </p:blipFill>
        <p:spPr>
          <a:xfrm>
            <a:off x="6480" y="3240"/>
            <a:ext cx="9137520" cy="68547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90076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1"/>
          <p:cNvSpPr/>
          <p:nvPr/>
        </p:nvSpPr>
        <p:spPr>
          <a:xfrm>
            <a:off x="1523880" y="114300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hurrikán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00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05764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"/>
          <p:cNvSpPr/>
          <p:nvPr/>
        </p:nvSpPr>
        <p:spPr>
          <a:xfrm>
            <a:off x="4230720" y="21178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Balti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900000" y="5722920"/>
            <a:ext cx="76456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9:54:42Z</dcterms:created>
  <dc:creator>Botesz</dc:creator>
  <dc:description/>
  <dc:language>en-US</dc:language>
  <cp:lastModifiedBy>Kupás Andor</cp:lastModifiedBy>
  <dcterms:modified xsi:type="dcterms:W3CDTF">2011-06-06T06:30:24Z</dcterms:modified>
  <cp:revision>41</cp:revision>
  <dc:subject/>
  <dc:title>1. dia</dc:title>
</cp:coreProperties>
</file>