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932-EE4C-4F6C-9C1C-CEF31624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ECB-01E2-4CED-AEA0-ADFAAA37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57C-2F40-440B-8FA8-39316650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509-970D-4EC9-830C-B2DAD6A6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9E3-AE03-43F0-AA0B-2F62515C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3A5-1ACE-48F2-8395-2539E127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87E-4FCA-46B1-87DC-006462C1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4B9-D0E8-4623-B85E-AF642586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7AD-ADEF-4E40-A335-8B92DBCD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608-5B9A-4412-B237-B9607027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930-A907-4945-927B-3D17F40C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C42-33E5-4421-99E5-35198C5A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6104C-6D05-44A1-AC15-981A645A251E}" type="slidenum">
              <a:rPr b="0" lang="hu-H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33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hu-HU" sz="6000" spc="-1" strike="noStrike">
                <a:solidFill>
                  <a:srgbClr val="ffffff"/>
                </a:solidFill>
                <a:latin typeface="Arial"/>
              </a:rPr>
              <a:t>Comenius Project</a:t>
            </a: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Ozone ho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4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3538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thane concentration in the surface and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95144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816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60360" y="1800360"/>
            <a:ext cx="8569440" cy="47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ir pollution in Hungary and else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524560" cy="361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4242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0240" y="55440"/>
            <a:ext cx="5010120" cy="372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940360" y="609480"/>
            <a:ext cx="4943520" cy="624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3635280" y="6238800"/>
            <a:ext cx="2305080" cy="6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6264360" cy="33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492360" y="2989440"/>
            <a:ext cx="577404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4406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0" y="4438800"/>
            <a:ext cx="685800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10523520" cy="58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hu-HU" sz="4000" spc="-1" strike="noStrike">
                <a:solidFill>
                  <a:srgbClr val="008080"/>
                </a:solidFill>
                <a:latin typeface="Arial"/>
              </a:rPr>
              <a:t>Air pollutio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31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260360" y="736560"/>
            <a:ext cx="6191280" cy="57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71640" y="0"/>
            <a:ext cx="6948360" cy="444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206360" y="4448160"/>
            <a:ext cx="648036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20:06:22Z</dcterms:created>
  <dc:creator>Rendszergazda</dc:creator>
  <dc:description/>
  <dc:language>en-US</dc:language>
  <cp:lastModifiedBy>Kupás Andor</cp:lastModifiedBy>
  <dcterms:modified xsi:type="dcterms:W3CDTF">2011-04-27T09:47:51Z</dcterms:modified>
  <cp:revision>5</cp:revision>
  <dc:subject/>
  <dc:title>Comenius Project </dc:title>
</cp:coreProperties>
</file>