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22.wmf" ContentType="image/x-wmf"/>
  <Override PartName="/ppt/media/image21.png" ContentType="image/png"/>
  <Override PartName="/ppt/media/image15.jpeg" ContentType="image/jpeg"/>
  <Override PartName="/ppt/media/image14.wmf" ContentType="image/x-wmf"/>
  <Override PartName="/ppt/media/image17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3.jpeg" ContentType="image/jpeg"/>
  <Override PartName="/ppt/media/image19.wmf" ContentType="image/x-wmf"/>
  <Override PartName="/ppt/media/image8.gif" ContentType="image/gif"/>
  <Override PartName="/ppt/media/image16.wmf" ContentType="image/x-wmf"/>
  <Override PartName="/ppt/media/image5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308-3C3A-47C0-B4DF-F31FDB54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469-9BC0-4204-BBA3-AB5A3C7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187-8305-4BB3-B554-01F7716F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4E3-9976-4903-B68E-ABCA3CD8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F04-5298-427E-BC5F-FA594E5C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84E-B942-496C-BF17-EF448FA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0F8-F1E1-4983-B2D7-26108AA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CBE-1B72-4A6A-9FFE-676DD957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275-A8AF-47FF-9734-208EBA7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4FD-BBAC-41E2-85E1-EF254E8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EBC-B5F5-43A9-8F77-A5DA6D7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796-244A-47C9-9E1C-EA65690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317-74C5-4B27-9268-8960D131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nius Project - TEST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672240" cy="36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7269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51280" y="551664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18892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Germany"/>
          <p:cNvPicPr/>
          <p:nvPr/>
        </p:nvPicPr>
        <p:blipFill>
          <a:blip r:embed="rId5"/>
          <a:stretch/>
        </p:blipFill>
        <p:spPr>
          <a:xfrm>
            <a:off x="759636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857160" cy="59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taly"/>
          <p:cNvPicPr/>
          <p:nvPr/>
        </p:nvPicPr>
        <p:blipFill>
          <a:blip r:embed="rId7"/>
          <a:stretch/>
        </p:blipFill>
        <p:spPr>
          <a:xfrm>
            <a:off x="651672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Turkey"/>
          <p:cNvPicPr/>
          <p:nvPr/>
        </p:nvPicPr>
        <p:blipFill>
          <a:blip r:embed="rId8"/>
          <a:stretch/>
        </p:blipFill>
        <p:spPr>
          <a:xfrm>
            <a:off x="6588000" y="5373720"/>
            <a:ext cx="8575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ntalya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  találkozó megváltoztatta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az előzetes elképzeléseidet a többi nemzetrő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8686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örökö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képp élnek, mint gondolt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sek voltak az ismeretlen „társaikk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kkal barátságosabbak, mint gondolt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m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hezen oldódtak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átságtalanok vol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képp viselkedtek, mint ahogy gondol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it furák vol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1800000" cy="12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0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948360" y="5516640"/>
            <a:ext cx="1876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tetszett a legjobb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rny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földi emb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jóú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z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íze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29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tetszett a legkevésb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rosné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5196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toztatnál-e valam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jektet jobban fel lehetne dobni saját videók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egemlékezetesebb élménye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 séta a váro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kor a tanár úr tánc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á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ger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jótú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28213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észvételed mely ismereteidet bővítet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708280"/>
          <a:ext cx="914400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144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nyiben más a projekt munka a hagyományos iskolai rendszertő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708280"/>
          <a:ext cx="9756720" cy="35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97567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ojekttel kapcsolatos munk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öbb vo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yananny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esebb vo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35260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családod véleménye a Comenius Projectrő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8930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es képességek fejlődé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ulmányok fejlődé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jánlanád másoknak is az Comenius Project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7800" y="3068640"/>
            <a:ext cx="232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mzetközi kommunikáció legjobb mód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-mail/M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deó kon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ef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vé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mélyes kapcs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808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ntalya-ban a munka a partnerekk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nnye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yanoly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hezebb vo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16360" y="4149720"/>
            <a:ext cx="3854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nyiben segített a találkozó abban, hogy megértsétek egymá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720" y="40766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371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5:28:12Z</dcterms:created>
  <dc:creator>Kupas Andor</dc:creator>
  <dc:description/>
  <dc:language>en-US</dc:language>
  <cp:lastModifiedBy>Kupas Andor</cp:lastModifiedBy>
  <dcterms:modified xsi:type="dcterms:W3CDTF">2010-10-02T15:55:45Z</dcterms:modified>
  <cp:revision>18</cp:revision>
  <dc:subject/>
  <dc:title>Comenius Project - TEST III.</dc:title>
</cp:coreProperties>
</file>