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4.png" ContentType="image/png"/>
  <Override PartName="/ppt/media/image5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6.gif" ContentType="image/gif"/>
  <Override PartName="/ppt/media/image13.wmf" ContentType="image/x-wmf"/>
  <Override PartName="/ppt/media/image10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7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6DA-8C8B-4B10-9458-81087720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56A2-786D-4AB0-8ABB-BD770CBE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AE8A-62BE-4F05-9DA4-24E4BB44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859-CAC7-4AE2-8E5C-33BFDE88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3FC-03D6-403B-8042-F2A338A2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E2F-41E0-4CF1-9E7C-1E38B599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D469-4782-43C1-B6ED-EBD0B1BC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613-79F6-4AE5-A359-456EA1F6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1A1-4F55-4EEB-842B-6C3A56D7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58F-D5FD-4E36-BC1D-C5AD7B9D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C31-E41C-4304-BBBC-7FD453D2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8E9-CA58-4D3E-A37F-F078E5A6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AD24-EDEA-46D0-9351-252CBEC70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Comenius Project - TEST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6672240" cy="369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80000" y="4292640"/>
            <a:ext cx="1726920" cy="1112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51280" y="5516640"/>
            <a:ext cx="1584360" cy="1220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187280" y="4724280"/>
            <a:ext cx="188928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Germany"/>
          <p:cNvPicPr/>
          <p:nvPr/>
        </p:nvPicPr>
        <p:blipFill>
          <a:blip r:embed="rId5"/>
          <a:stretch/>
        </p:blipFill>
        <p:spPr>
          <a:xfrm>
            <a:off x="7596360" y="4581360"/>
            <a:ext cx="857160" cy="590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667640" y="5373720"/>
            <a:ext cx="857160" cy="590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Italy"/>
          <p:cNvPicPr/>
          <p:nvPr/>
        </p:nvPicPr>
        <p:blipFill>
          <a:blip r:embed="rId7"/>
          <a:stretch/>
        </p:blipFill>
        <p:spPr>
          <a:xfrm>
            <a:off x="6516720" y="4581360"/>
            <a:ext cx="857160" cy="590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Turkey"/>
          <p:cNvPicPr/>
          <p:nvPr/>
        </p:nvPicPr>
        <p:blipFill>
          <a:blip r:embed="rId8"/>
          <a:stretch/>
        </p:blipFill>
        <p:spPr>
          <a:xfrm>
            <a:off x="6588000" y="5373720"/>
            <a:ext cx="857520" cy="5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zitív tapasztal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elvi fejlőd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ó csapatmunka és tanári vezet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rdekes tém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tanulunk előad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tanulunk csapatban dolgoz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cesen telnek a Comenius ór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87640" y="4657680"/>
            <a:ext cx="31924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zitív tapasztal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k segítséget kapunk a társaktól és a tanárokt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ban megismerem az osztálytársai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gtiszteltetés, hogy részt vehetek a program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b lett a PowerPoint tudá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sszehozta a csoportban lévő embere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jlődött az angol tudá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ív tapasztal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sapatmunka teljes hiá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apattárs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más közötti rossz kommunik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4052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Ötl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enru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29080" y="0"/>
            <a:ext cx="56149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508720" y="254016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en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Ötl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Jövő év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mog, szmogriad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lobális felmelege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ért van egyre több hurriká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égszennye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evegő összeté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evegő haszná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élene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ég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pü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ngközvet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64000" y="3860640"/>
            <a:ext cx="3384720" cy="25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Úgy halad a projekt, ahogy gondolt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95280" y="1700280"/>
          <a:ext cx="8172360" cy="465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00280"/>
                    <a:ext cx="81723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ánylag igen, de nem a tanárokon múl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en, bár jobban is haladhattunk vol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m, mert az előadás és a képek készek, de a szöveg még nem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sabb ütemben ha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m halad elég gyorsan, mert van aki kollég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19640" y="414972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5:50:15Z</dcterms:created>
  <dc:creator>Kupás Andor</dc:creator>
  <dc:description/>
  <dc:language>en-US</dc:language>
  <cp:lastModifiedBy>Kupas Andor</cp:lastModifiedBy>
  <dcterms:modified xsi:type="dcterms:W3CDTF">2010-05-13T15:17:28Z</dcterms:modified>
  <cp:revision>27</cp:revision>
  <dc:subject/>
  <dc:title>Úgy halad projekt, ahogy gondoltad?</dc:title>
</cp:coreProperties>
</file>