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13.wmf" ContentType="image/x-wmf"/>
  <Override PartName="/ppt/media/image1.png" ContentType="image/png"/>
  <Override PartName="/ppt/media/image3.jpeg" ContentType="image/jpeg"/>
  <Override PartName="/ppt/media/image9.png" ContentType="image/png"/>
  <Override PartName="/ppt/media/image6.gif" ContentType="image/gif"/>
  <Override PartName="/ppt/media/image10.wmf" ContentType="image/x-wmf"/>
  <Override PartName="/ppt/media/image4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DF6-5AD2-41D4-B772-A7E0E976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900-5AA5-49C3-A089-137FD11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41F-E2CD-443E-AE0C-E5608733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630-D42D-4BD9-AC25-09DA49E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726-90EC-4CC4-81B7-9917FDF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B2A-CBDD-4F15-851B-BE6B589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2C0-02D3-4E66-8A7B-4D58CFB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FFC-D907-4912-92B5-837F28E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36-4B4C-4EF4-BB92-1813692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17C-FE1C-4C55-B4E6-C63926B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387-3BE9-46F1-86F4-4F9AE0E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2EF-D658-4C9E-95B5-B13E8ED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64B-B2B2-40AC-88E6-97CFF60C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nius Project - TEST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672240" cy="369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4292640"/>
            <a:ext cx="17269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51280" y="5516640"/>
            <a:ext cx="1584360" cy="1220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18892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Germany"/>
          <p:cNvPicPr/>
          <p:nvPr/>
        </p:nvPicPr>
        <p:blipFill>
          <a:blip r:embed="rId5"/>
          <a:stretch/>
        </p:blipFill>
        <p:spPr>
          <a:xfrm>
            <a:off x="759636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857160" cy="59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taly"/>
          <p:cNvPicPr/>
          <p:nvPr/>
        </p:nvPicPr>
        <p:blipFill>
          <a:blip r:embed="rId7"/>
          <a:stretch/>
        </p:blipFill>
        <p:spPr>
          <a:xfrm>
            <a:off x="6516720" y="4581360"/>
            <a:ext cx="857160" cy="59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Turkey"/>
          <p:cNvPicPr/>
          <p:nvPr/>
        </p:nvPicPr>
        <p:blipFill>
          <a:blip r:embed="rId8"/>
          <a:stretch/>
        </p:blipFill>
        <p:spPr>
          <a:xfrm>
            <a:off x="6588000" y="5373720"/>
            <a:ext cx="8575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4000" y="274680"/>
            <a:ext cx="52196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sz a Comenius Projectrő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994120" cy="34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0" y="3867120"/>
          <a:ext cx="9144000" cy="29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67120"/>
                    <a:ext cx="91440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49690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gondolsz a Comenius Projectrő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2981520" cy="304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0" y="3324240"/>
          <a:ext cx="9144000" cy="35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24240"/>
                    <a:ext cx="914400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50920" y="333000"/>
            <a:ext cx="50036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it gondolsz a Comenius Projectrő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981160" cy="304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3357720"/>
          <a:ext cx="9144000" cy="375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7720"/>
                    <a:ext cx="91440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Comenius Project = Don’t Worry Be Happ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6648480" cy="570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14112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88000" y="422100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32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1:41:26Z</dcterms:created>
  <dc:creator>Kupas Andor</dc:creator>
  <dc:description/>
  <dc:language>en-US</dc:language>
  <cp:lastModifiedBy>Kupas Andor</cp:lastModifiedBy>
  <dcterms:modified xsi:type="dcterms:W3CDTF">2010-02-28T16:37:24Z</dcterms:modified>
  <cp:revision>27</cp:revision>
  <dc:subject/>
  <dc:title>Comenius Project - TEST I.</dc:title>
</cp:coreProperties>
</file>